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987F-3CC5-4BF2-8DFA-903FDF475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C3A1-DED2-4405-9C88-6CCE02BCC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11E0-61B3-4F2F-BED4-25F93CADC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A8DF-877C-426B-AE79-48A4052D8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BBD94-524B-47A9-9D71-061A8F1B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8FE45-EDDF-4A10-87D4-DF83CEF0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749AB-1C9F-4EF4-8D4D-40A24CF1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EC783-3BBB-4478-AA02-81423F04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00DAB-E1B0-485B-8199-924A96B3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AC690-6167-4A55-80F5-BA97CBAA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443E0-5720-4ECF-99B6-24F81EE9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B1B9-CB55-430A-8ADB-DDB5E6D91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119D4-8BE4-4D55-B524-043D1596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E2473-E51B-4238-A52D-EBDC9941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66FFA-C2A6-4453-AE59-7B12821E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2B9D0-59DC-4A51-BF97-8ACAA998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572C6-D209-4F39-BE78-D0976388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C3CC-E5F2-4DF5-862B-15A8635F7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E9C0-C03F-4A45-AE74-C400D4B3A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26F9-67E5-4371-A591-823406F69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D2AE-6FDD-4AD0-8AF4-363213A48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BC1B-80F2-4BC2-83B6-3149249AD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196C-3C67-494E-90F4-67E377258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EB8D-7DA4-4D54-8F7A-1185C9819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500EFD-F803-4345-BF64-0AE4BA3174D7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C397-E7FD-41FF-A9F3-6B48129CB237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Q Mobile Group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rnaround Program Initiativ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M-Excellenc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"/>
          <p:cNvSpPr/>
          <p:nvPr/>
        </p:nvSpPr>
        <p:spPr>
          <a:xfrm>
            <a:off x="431640" y="5251320"/>
            <a:ext cx="4572000" cy="92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文鼎中黑"/>
              </a:rPr>
              <a:t>BMG Program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文鼎中黑"/>
              </a:rPr>
              <a:t>26.0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Summary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34748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ase for action and scope of initiative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Overall status of initiative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tailed project pla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000"/>
            </a:b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00" y="1670040"/>
            <a:ext cx="4303800" cy="4775040"/>
          </a:xfrm>
          <a:custGeom>
            <a:avLst/>
            <a:gdLst>
              <a:gd name="textAreaLeft" fmla="*/ 0 w 4303800"/>
              <a:gd name="textAreaRight" fmla="*/ 4304160 w 4303800"/>
              <a:gd name="textAreaTop" fmla="*/ 0 h 4775040"/>
              <a:gd name="textAreaBottom" fmla="*/ 4775400 h 477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2" y="0"/>
                </a:lnTo>
                <a:lnTo>
                  <a:pt x="21600" y="10800"/>
                </a:lnTo>
                <a:lnTo>
                  <a:pt x="187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08000" bIns="72000" anchor="t">
            <a:noAutofit/>
          </a:bodyPr>
          <a:p>
            <a:pPr lvl="1" marL="803160" indent="-26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6028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9720" y="1844640"/>
            <a:ext cx="36259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TM not satis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roduct quality at delivery date not satisfactory; return rates too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Requirements mgmt and change request processes too vola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latform and re-use strategy needs more at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rocess understanding and maturity level too low (&lt; CMM level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rocess metrics and derived CIP measures not part of routine PLM 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Low intake of invention disclo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94040" y="1312920"/>
            <a:ext cx="32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"/>
              </a:rPr>
              <a:t>PLM Excellence Initiative Sco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5960" y="1332000"/>
            <a:ext cx="372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"/>
              </a:rPr>
              <a:t>Current PLM situation – case for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7080" y="1668600"/>
            <a:ext cx="3668760" cy="47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3120" y="244080"/>
            <a:ext cx="902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Immediate drive PLM efficiency and T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53320"/>
            <a:ext cx="758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Minion"/>
                <a:ea typeface="文鼎中黑"/>
              </a:rPr>
              <a:t>For Top Management, summary, Current PLM situation &amp; PLM Excellence project scop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86280" y="1628640"/>
            <a:ext cx="4078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Minion"/>
                <a:ea typeface="文鼎中黑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quality and innovation position for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products on the road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Define quantified targets 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benchmark considerations), and de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PKIs and objectives for the suborgan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w.r.t. People – Process – Products - Pro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Launch series of specific impr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projects to optimize whole PLM,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only the R&amp;D org or 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Start with PHE, involve PHA later when results can b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demons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86280" y="3935520"/>
            <a:ext cx="4078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Minion"/>
                <a:ea typeface="文鼎中黑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People: Motivation &amp; 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Process: Organization &amp; 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Products:Innovation &amp;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Proj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5851440"/>
            <a:ext cx="407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Minion"/>
                <a:ea typeface="文鼎中黑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S. Bocion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498492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Minion"/>
                <a:ea typeface="文鼎中黑"/>
              </a:rPr>
              <a:t>KP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19 KPI’s defined, clustered in the BSC (balanced scorecards) systematic: Financials, Process, People &amp; innovation, 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3120" y="1197000"/>
            <a:ext cx="1781280" cy="268200"/>
          </a:xfrm>
          <a:prstGeom prst="rect">
            <a:avLst/>
          </a:prstGeom>
          <a:solidFill>
            <a:srgbClr val="a6a0c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8440" y="1254240"/>
            <a:ext cx="93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Achiev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9800" y="1541520"/>
            <a:ext cx="3116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144360" indent="-14292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New organization MD SP defined an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implemented and oper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360" indent="-14292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arve out project COM SP up and ru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360" indent="-14292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Negotiation achievement tracking in place (11,6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360" indent="-14292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enQ / MD team in 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3120" y="1197000"/>
            <a:ext cx="3948120" cy="3095640"/>
          </a:xfrm>
          <a:custGeom>
            <a:avLst/>
            <a:gdLst>
              <a:gd name="textAreaLeft" fmla="*/ 0 w 3948120"/>
              <a:gd name="textAreaRight" fmla="*/ 3948480 w 394812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3120" y="1197000"/>
            <a:ext cx="2940120" cy="268200"/>
          </a:xfrm>
          <a:prstGeom prst="rect">
            <a:avLst/>
          </a:prstGeom>
          <a:solidFill>
            <a:srgbClr val="a6a0c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8440" y="1254240"/>
            <a:ext cx="93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Achiev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08480" y="1197000"/>
            <a:ext cx="4611600" cy="3095640"/>
          </a:xfrm>
          <a:custGeom>
            <a:avLst/>
            <a:gdLst>
              <a:gd name="textAreaLeft" fmla="*/ 0 w 4611600"/>
              <a:gd name="textAreaRight" fmla="*/ 4611960 w 461160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115000"/>
              <a:buFont typeface="Symbol" charset="2"/>
              <a:buChar char="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11720" y="1197000"/>
            <a:ext cx="2949480" cy="266760"/>
          </a:xfrm>
          <a:prstGeom prst="rect">
            <a:avLst/>
          </a:prstGeom>
          <a:solidFill>
            <a:srgbClr val="a6a0c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24520" y="1258920"/>
            <a:ext cx="250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Critical issues/Open topics to be solve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3120" y="4430880"/>
            <a:ext cx="3948120" cy="1662120"/>
          </a:xfrm>
          <a:custGeom>
            <a:avLst/>
            <a:gdLst>
              <a:gd name="textAreaLeft" fmla="*/ 0 w 3948120"/>
              <a:gd name="textAreaRight" fmla="*/ 3948480 w 394812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3120" y="4438800"/>
            <a:ext cx="2944800" cy="268200"/>
          </a:xfrm>
          <a:prstGeom prst="rect">
            <a:avLst/>
          </a:prstGeom>
          <a:solidFill>
            <a:srgbClr val="a6a0c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8080" y="4502160"/>
            <a:ext cx="2829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Required decisions from Management 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0040" y="4430880"/>
            <a:ext cx="4611600" cy="1660320"/>
          </a:xfrm>
          <a:custGeom>
            <a:avLst/>
            <a:gdLst>
              <a:gd name="textAreaLeft" fmla="*/ 0 w 4611600"/>
              <a:gd name="textAreaRight" fmla="*/ 4611960 w 4611600"/>
              <a:gd name="textAreaTop" fmla="*/ 0 h 1660320"/>
              <a:gd name="textAreaBottom" fmla="*/ 1660680 h 166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115000"/>
              <a:buFont typeface="Symbol" charset="2"/>
              <a:buChar char="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11720" y="4430880"/>
            <a:ext cx="2949480" cy="293400"/>
          </a:xfrm>
          <a:prstGeom prst="rect">
            <a:avLst/>
          </a:prstGeom>
          <a:solidFill>
            <a:srgbClr val="a6a0c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92640" y="4502160"/>
            <a:ext cx="71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Next step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604360" y="331560"/>
            <a:ext cx="290520" cy="493560"/>
            <a:chOff x="8604360" y="331560"/>
            <a:chExt cx="290520" cy="493560"/>
          </a:xfrm>
        </p:grpSpPr>
        <p:sp>
          <p:nvSpPr>
            <p:cNvPr id="114" name=""/>
            <p:cNvSpPr/>
            <p:nvPr/>
          </p:nvSpPr>
          <p:spPr>
            <a:xfrm rot="10800000">
              <a:off x="8650440" y="331560"/>
              <a:ext cx="213480" cy="4935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8711640" y="518760"/>
              <a:ext cx="896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8711640" y="392040"/>
              <a:ext cx="896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8820000" y="605520"/>
              <a:ext cx="72720" cy="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826120" y="756720"/>
              <a:ext cx="6876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616960" y="761400"/>
              <a:ext cx="7560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04360" y="607320"/>
              <a:ext cx="8856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0800000">
              <a:off x="8655480" y="593280"/>
              <a:ext cx="202680" cy="22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-421920" y="333360"/>
            <a:ext cx="784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2683"/>
                </a:solidFill>
                <a:latin typeface="Minion"/>
                <a:ea typeface="文鼎中黑"/>
              </a:rPr>
              <a:t>Overall status turnaround initiative PLM Excel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4760" y="1776240"/>
            <a:ext cx="3692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PLM excellence program defined, agreed upon by CM, TPM, RD, and communicated within all R&amp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KPI‘s for R&amp;D org completed Jan-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U2 projects launched to secure Kestrel, Polaris, Swift, Swan; metrics since Jan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Kick-off for Agile Initiative Jan-4; applied to Ruby, Gemstone, J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1776240"/>
            <a:ext cx="369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5157720"/>
            <a:ext cx="369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0200" y="4797360"/>
            <a:ext cx="419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Arial"/>
                <a:ea typeface="文鼎中黑"/>
              </a:rPr>
              <a:t>Task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                   </a:t>
            </a:r>
            <a:r>
              <a:rPr b="0" lang="en-US" sz="1000" spc="-1" strike="noStrike" u="sng">
                <a:solidFill>
                  <a:srgbClr val="3a0e66"/>
                </a:solidFill>
                <a:uFillTx/>
                <a:latin typeface="Arial"/>
                <a:ea typeface="文鼎中黑"/>
              </a:rPr>
              <a:t>Responsible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     </a:t>
            </a:r>
            <a:r>
              <a:rPr b="0" lang="en-US" sz="1000" spc="-1" strike="noStrike" u="sng">
                <a:solidFill>
                  <a:srgbClr val="3a0e66"/>
                </a:solidFill>
                <a:uFillTx/>
                <a:latin typeface="Arial"/>
                <a:ea typeface="文鼎中黑"/>
              </a:rPr>
              <a:t>Due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5160960"/>
            <a:ext cx="369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61960" y="151920"/>
            <a:ext cx="8267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PLM Excellence Project Status Overview: 25-Jan-06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23800" y="735120"/>
          <a:ext cx="8305920" cy="4984560"/>
        </p:xfrm>
        <a:graphic>
          <a:graphicData uri="http://schemas.openxmlformats.org/drawingml/2006/table">
            <a:tbl>
              <a:tblPr/>
              <a:tblGrid>
                <a:gridCol w="1285920"/>
                <a:gridCol w="895320"/>
                <a:gridCol w="2210040"/>
                <a:gridCol w="2253960"/>
                <a:gridCol w="1660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Project, P-Lea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Achiev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Critical Iss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Next St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文鼎中黑"/>
                        </a:rPr>
                        <a:t>Uniform Communi-cation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文鼎中黑"/>
                        </a:rPr>
                        <a:t>Bocion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Concept „Quo Vadis R&amp;D“ defined; accepted by mgmt te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All hands R&amp;D meeting on 27-Jan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High-performing culture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Bocion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KPI‘s defined, baselining underway, targets to be set end of mont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KPI targets ready 31-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Mgmt objectives 14-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Model-V implem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Bocionek</a:t>
                      </a: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, Fill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eeds more discussions with BenQ QM; </a:t>
                      </a:r>
                      <a:r>
                        <a:rPr b="1" lang="de-DE" sz="10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B dr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Agile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U. Schmitz</a:t>
                      </a: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, Faessler, Rudol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Kick-off for Swan and Koala on Jan 4/5; Consulting supp. by ObjectMentor(O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Koala stopped; now Ruby &amp; Gemstone; High consultancy 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Scrum start Ruby 14-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OM offer agreed 14-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Best-in-Test: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Wac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Systemtest managers informed, goals partly defined</a:t>
                      </a:r>
                      <a:r>
                        <a:rPr b="1" lang="de-DE" sz="10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alignment with SW and Q, kick off in cw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Best-in-IT tools; J.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Schmit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Kick-off done; Benchmarking star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ssource &amp; budget in ES dept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epends on concept tp be realiz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cept proposal ready in cw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Platform &amp; Portfolio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SB + 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Good alignment meetings with CM in Dec. 05; needs contin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Too little exchange of ideas so far (but there was Christma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QA‘able Portfolio doc by Uwe Sydon due 31-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Invent the future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Bauregger</a:t>
                      </a: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, Hart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Kick off meeting cw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Status eval. start cw04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Target clarif. start cw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cleanApoxi platform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Faess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ajor goals identif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Team members to be named (Jan 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U2 projects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Faessler, Rudol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Ongoing for Polaris, Swift, Swan, Kestrel; wallchart reviews star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Wallchart reviews &amp; SW TTM call with JE week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Quality Up of MD;</a:t>
                      </a:r>
                      <a:r>
                        <a:rPr b="0" lang="de-DE" sz="9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Thonau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LM MD excellence program and KPI‘s def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Track monthly KPI‘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rot="16200000">
            <a:off x="2122560" y="112032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2195640" y="141408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2208240" y="1401120"/>
            <a:ext cx="1404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2387520" y="1363320"/>
            <a:ext cx="157320" cy="157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2128680" y="151776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2201760" y="181080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2214360" y="1798560"/>
            <a:ext cx="1440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2393640" y="1760040"/>
            <a:ext cx="157320" cy="156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2125440" y="194292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2198520" y="220788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2211480" y="2195280"/>
            <a:ext cx="1404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2122200" y="233964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2182680" y="2582640"/>
            <a:ext cx="15696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2195640" y="260460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208240" y="259236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2192400" y="302076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205000" y="300816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2189160" y="341748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2201760" y="340524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2112840" y="2755440"/>
            <a:ext cx="26964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2185920" y="3814560"/>
            <a:ext cx="1872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2198520" y="380196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2109960" y="316980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2170080" y="3412800"/>
            <a:ext cx="15696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2182680" y="421128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2195640" y="4198680"/>
            <a:ext cx="1404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2106360" y="360180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166840" y="384444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2179440" y="4598640"/>
            <a:ext cx="19080" cy="1872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2192400" y="4585680"/>
            <a:ext cx="1404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2103480" y="403380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176560" y="496692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2189160" y="4953960"/>
            <a:ext cx="1404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2100240" y="439416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2173320" y="539244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2185920" y="5379480"/>
            <a:ext cx="1404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2097000" y="482616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2170080" y="574164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2182680" y="5728680"/>
            <a:ext cx="1404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2361960" y="5068440"/>
            <a:ext cx="157320" cy="156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2093760" y="518652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2166840" y="612900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2179800" y="6116400"/>
            <a:ext cx="1404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2358720" y="5428800"/>
            <a:ext cx="157320" cy="156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2163600" y="651636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2176560" y="6503760"/>
            <a:ext cx="1404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2361960" y="4633560"/>
            <a:ext cx="157320" cy="156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2355840" y="4274640"/>
            <a:ext cx="157320" cy="157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2182680" y="2993760"/>
            <a:ext cx="15696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2411280" y="2192040"/>
            <a:ext cx="156960" cy="157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emplate 3: Detailed project plan</a:t>
            </a:r>
            <a:r>
              <a:rPr b="1" i="1" lang="en-US" sz="24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1" name=""/>
          <p:cNvSpPr/>
          <p:nvPr/>
        </p:nvSpPr>
        <p:spPr>
          <a:xfrm>
            <a:off x="308880" y="1341360"/>
            <a:ext cx="2414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Including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as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imelines &amp; due 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87640" y="1197000"/>
            <a:ext cx="289080" cy="1800360"/>
          </a:xfrm>
          <a:custGeom>
            <a:avLst/>
            <a:gdLst>
              <a:gd name="textAreaLeft" fmla="*/ 0 w 289080"/>
              <a:gd name="textAreaRight" fmla="*/ 104400 w 2890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97320" y="191628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see next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61960" y="151920"/>
            <a:ext cx="8267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PLM Excellence Project Plans: Overview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23800" y="1039680"/>
          <a:ext cx="8305920" cy="4957560"/>
        </p:xfrm>
        <a:graphic>
          <a:graphicData uri="http://schemas.openxmlformats.org/drawingml/2006/table">
            <a:tbl>
              <a:tblPr/>
              <a:tblGrid>
                <a:gridCol w="1285920"/>
                <a:gridCol w="895320"/>
                <a:gridCol w="4464000"/>
                <a:gridCol w="1660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Project, P-Lea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Project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Next St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文鼎中黑"/>
                        </a:rPr>
                        <a:t>Uniform Communi-cation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文鼎中黑"/>
                        </a:rPr>
                        <a:t>Bocion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Establish regular all hands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Engange in breakfast meetings and other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2nd all hands R&amp;D meeting on March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High-performing culture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Bocion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Establish commitment-driven behavior, KPI metrics, Balanced Score ca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BSC in Feb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Employee survey Jul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Model-V;            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Bocionek</a:t>
                      </a: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, Fill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Introduce process culture and discipline, incl. Internal customer satisfaction metrics (Mar 06), CIP targets (Apr. 06), CMM baseline (Dec 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Define program, Feb.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Agile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U. Schmitz</a:t>
                      </a: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, Faessler, Rudol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Prototype Agile in 2 – 3 projects (Jan – Sep 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Prepare organization for full Agile transition (Dec 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Scrum start Ruby 14-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OM offer agreed 14-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Best-in-Test: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Wac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Start defect injection analysis (Feb 06), define bug fix cycle time impro-vement plan (Feb 06), improve NCCPI at delivery dates to &lt; 50K (Jul 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alignment with SW and Q, kick off in cw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Best-in-IT tools; J.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Schmit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solidate all tools for PLM (Mar 06), centralize support infrastructure (Mar 06), increase interaction and automation of tool chain (Jul 06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cept proposal ready in cw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Platform &amp; Portfolio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SB + 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Define Roadmap alignment &amp; change mgmt process (Feb 06), clarify plat-form responsibilities and activities (Feb 06), define re-use strategy (Mar 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QA‘able Portfolio doc by Uwe Sydon due 31-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Invent the future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Bauregger</a:t>
                      </a: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, Hart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Agree on invention disclosure targets (Jan 06), start invention initiative (Feb 06), strengthen IP portfolio of BMG (Dec 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Launch initiative (Feb 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cleanApoxi platform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Faess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efine formal platform concept, incl. technical specification (Mar 06), usage model (Apr 06); start skills enhancement program (May 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Start workgroup, cw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U2 projects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Faessler, Rudol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Set up U2 methodology for Polaris, Swift, Swan, Kestrel (done, Jan 06); report metrics on weekly basis (ongoing); secure TTM for the pro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Wallchart reviews started 26-Jan; weekly pract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Quality Up of MD;</a:t>
                      </a:r>
                      <a:r>
                        <a:rPr b="0" lang="de-DE" sz="9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Thonau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LM MD excellence program and KPI‘s defined (done, Jan06; &lt; 2% RR), improvement project starts Feb 06), visible results (Jul 06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Track monthly KPI‘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rot="16200000">
            <a:off x="2122200" y="142524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2195640" y="171900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2208240" y="170640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2387520" y="1668240"/>
            <a:ext cx="156960" cy="157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2128680" y="189072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2201760" y="211572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2214360" y="2103480"/>
            <a:ext cx="1440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2394000" y="2133720"/>
            <a:ext cx="156960" cy="156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2125800" y="226800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2198520" y="251280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2211120" y="2500200"/>
            <a:ext cx="1440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2122200" y="270000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2182680" y="2943000"/>
            <a:ext cx="15696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2195640" y="290952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2208240" y="2896560"/>
            <a:ext cx="1404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2192400" y="332532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2205000" y="331308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2189160" y="372240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2201760" y="3709440"/>
            <a:ext cx="1404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2112840" y="3131640"/>
            <a:ext cx="26964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2185920" y="411912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2198520" y="410688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2109960" y="349200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2170080" y="373500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2182680" y="451620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2195280" y="4503600"/>
            <a:ext cx="1440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2106720" y="390636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2166840" y="414936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2179440" y="4903560"/>
            <a:ext cx="19080" cy="1872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192400" y="489096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103480" y="428472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2176560" y="527184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2189160" y="525924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2100240" y="4699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2173320" y="569700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2185920" y="568476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097000" y="5076360"/>
            <a:ext cx="26964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2170080" y="604656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2182680" y="603396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2361960" y="5319360"/>
            <a:ext cx="157320" cy="156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093760" y="5490720"/>
            <a:ext cx="26964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2166840" y="643392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2179440" y="6421320"/>
            <a:ext cx="1440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359080" y="5734080"/>
            <a:ext cx="156960" cy="156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163600" y="651636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2176560" y="6503760"/>
            <a:ext cx="1404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2362320" y="4938840"/>
            <a:ext cx="156960" cy="156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2355840" y="4525560"/>
            <a:ext cx="157320" cy="157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2182680" y="3369960"/>
            <a:ext cx="15696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2398680" y="2496600"/>
            <a:ext cx="157320" cy="157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4:31:17Z</dcterms:created>
  <dc:creator>Alexander Rusitska</dc:creator>
  <dc:description/>
  <dc:language>en-US</dc:language>
  <cp:lastModifiedBy>Siegfried Bocionek</cp:lastModifiedBy>
  <dcterms:modified xsi:type="dcterms:W3CDTF">2006-01-26T18:35:30Z</dcterms:modified>
  <cp:revision>116</cp:revision>
  <dc:subject/>
  <dc:title>Presentation Title</dc:title>
</cp:coreProperties>
</file>